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whoosh.wav" ContentType="audio/x-wav"/>
  <Override PartName="/ppt/media/image10.jpeg" ContentType="image/jpeg"/>
  <Override PartName="/ppt/media/image12.jpeg" ContentType="image/jpeg"/>
  <Override PartName="/ppt/media/image6.png" ContentType="image/png"/>
  <Override PartName="/ppt/media/image7.jpeg" ContentType="image/jpeg"/>
  <Override PartName="/ppt/media/image1.jpeg" ContentType="image/jpeg"/>
  <Override PartName="/ppt/media/image2.jpeg" ContentType="image/jpeg"/>
  <Override PartName="/ppt/media/chimes.wav" ContentType="audio/x-wav"/>
  <Override PartName="/ppt/media/image11.jpeg" ContentType="image/jpeg"/>
  <Override PartName="/ppt/media/image9.jpeg" ContentType="image/jpeg"/>
  <Override PartName="/ppt/media/drumroll.wav" ContentType="audio/x-wav"/>
  <Override PartName="/ppt/media/image3.jpeg" ContentType="image/jpeg"/>
  <Override PartName="/ppt/media/type.wav" ContentType="audio/x-wav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9C77-E620-4998-B3EF-D5163EC1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EA3E-CE86-4D8D-BB71-0CF3A91C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73AB-4402-49E6-B8C9-ABFAEA15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4E36-850E-4B8E-B087-D67947C1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1381-D2C7-47B4-82CD-9B105321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94AB-2BF0-450B-BE66-E85CCDB6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5BD5-CB29-451B-AACF-0E2AEA1F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C04E-549D-4C6E-88D0-386C0155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A591-E7C9-4220-A15C-AE93C211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149A-9AD3-4117-9502-D367F363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D43B-B103-48A5-8A45-BD2B59F7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C77-315D-4722-AB5C-6CC469C1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D343-C91B-4C87-B340-AE21CBDB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BB6E-7FD2-455E-9BA3-A4BB44AD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F881-EC16-41EF-813A-40072A7E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4589-CFC4-4EF1-A833-EE096B0D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1557-1428-43D5-B744-6CDE5A7A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8185B-4802-4894-8F23-7EB4D9CA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6C691-0938-43A1-B73C-CF411CD0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25AF5-414C-4054-8FF3-6AF34974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23F8D-CBD6-45F0-BF7F-67BB4DC9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6E16A-B5D2-4F26-BA31-4634F1F2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331-533F-4D1C-94CD-05C0E12B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290B1-7677-4CC9-BEB1-5C1D8998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9076E-2CD5-4486-AF7B-5B4BF3A6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A196C-C60C-4811-BCC6-E11816B9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A9583-128E-4941-BBDD-6123C979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772D1-223A-4715-9038-02905A79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CA8F7-B002-464B-9A16-077C8CF8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0ED5C-02EF-48D9-8095-7545E1BA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91F1D-6EFF-4FEB-8017-10381CF7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3D267-6F6B-4745-86A2-3AD30C3E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F0BC2-11B4-4473-83A0-6ECAFC29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8FF0-3E0D-49B9-9CD9-610226CF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6605D-9844-4DE5-9F51-543D5641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4A5AC-7DB8-40D8-92E4-AFB92437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C57AF-2046-4AF7-9529-58083684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D6C23-1ADA-4A5B-B95C-4160711C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364DC-A3E7-4401-9E5E-735C6826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3BB1C-F6C8-421A-B994-E82737DF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93280-6973-45F6-B083-CCA87168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01D26-20BD-4CC6-BFAC-1C661D4A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E5EA9-DE28-4BAC-95F0-A88B9348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8EF26-EDA7-47C5-9CD1-27441113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D61-A7DF-40A2-8A90-10FFBC3A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7492D-5677-453B-AC20-0DAB64C2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60B8C-E178-4321-9103-FEAE0F79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AA7F2-78CF-40DC-92AC-681CFBF0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1440B-DEB5-4441-AB63-0A3A462C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785BD-20BD-4E41-B168-A4228EFC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F712E-321E-4527-B301-8B495A90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43C0B-9FE8-4B07-B18B-3570CB5C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1377E-7BAE-4FBC-9345-FA883F60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3E1D0-DFBC-4EA5-B5A5-28549353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D02B0-8BF6-4613-9001-92CB6474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01A9-BCC5-467D-B73C-C9CC01C4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67B32-78EE-439A-A0AC-3104F07B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ABB-584E-44D7-8D09-10828CAC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7FEA-0C53-494D-855D-827C0897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9E09-7F98-49EE-87D5-BB7537AD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945A-97C3-41C6-967C-B04EB2F48B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3354-0197-43E6-BDD4-034EEDD575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D2D1-1AA5-4B12-BF89-B7209F97E1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8BF0-4877-433D-B612-276E1759C3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26E6-71E2-4ED9-8646-0BA61118E27E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audio" Target="../media/drumroll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24000" y="1484280"/>
            <a:ext cx="84247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66"/>
                </a:solidFill>
                <a:latin typeface="Times New Roman"/>
              </a:rPr>
              <a:t>5.</a:t>
            </a:r>
            <a:r>
              <a:rPr b="1" lang="zh-CN" sz="9600" spc="-1" strike="noStrike">
                <a:solidFill>
                  <a:srgbClr val="000066"/>
                </a:solidFill>
                <a:latin typeface="Times New Roman"/>
              </a:rPr>
              <a:t>古诗两首</a:t>
            </a:r>
            <a:endParaRPr b="0" lang="en-US" sz="9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3"/>
          <p:cNvSpPr/>
          <p:nvPr/>
        </p:nvSpPr>
        <p:spPr>
          <a:xfrm>
            <a:off x="5562720" y="609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丰年留客足鸡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7" name="Picture 4" descr="山村9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矩形 4"/>
          <p:cNvSpPr/>
          <p:nvPr/>
        </p:nvSpPr>
        <p:spPr>
          <a:xfrm>
            <a:off x="5429160" y="1785960"/>
            <a:ext cx="3929040" cy="11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丰收年景款待客人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菜肴尽够丰盛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山涧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"/>
          <p:cNvSpPr/>
          <p:nvPr/>
        </p:nvSpPr>
        <p:spPr>
          <a:xfrm>
            <a:off x="1600200" y="457200"/>
            <a:ext cx="57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山重水复疑无路，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矩形 4"/>
          <p:cNvSpPr/>
          <p:nvPr/>
        </p:nvSpPr>
        <p:spPr>
          <a:xfrm>
            <a:off x="1285920" y="1428840"/>
            <a:ext cx="59292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山峦重重，水道弯弯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正怀疑无路可走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山村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1295280" y="5335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Arial"/>
              </a:rPr>
              <a:t>柳暗花明又一村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矩形 4"/>
          <p:cNvSpPr/>
          <p:nvPr/>
        </p:nvSpPr>
        <p:spPr>
          <a:xfrm>
            <a:off x="1143000" y="1857240"/>
            <a:ext cx="6715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突然发现柳荫深深，鲜花明艳，眼前又是一个山村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250920" y="162864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 u="sng">
                <a:solidFill>
                  <a:srgbClr val="cc3300"/>
                </a:solidFill>
                <a:uFillTx/>
                <a:latin typeface="Times New Roman"/>
              </a:rPr>
              <a:t>3</a:t>
            </a:r>
            <a:r>
              <a:rPr b="1" lang="zh-CN" sz="8000" spc="-1" strike="noStrike" u="sng">
                <a:solidFill>
                  <a:srgbClr val="cc3300"/>
                </a:solidFill>
                <a:uFillTx/>
                <a:latin typeface="Times New Roman"/>
              </a:rPr>
              <a:t>想意境，悟诗情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252360" y="40464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楷体_GB2312"/>
              </a:rPr>
              <a:t>欣赏了完了这首诗，同学们能不能用诗中的一句话来赞美一下山西村的景美呢？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698400" y="471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3887280" y="2708280"/>
            <a:ext cx="11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山重水复疑无路，柳暗花明又一村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252360" y="3789360"/>
            <a:ext cx="8352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还能不能用一句诗来赞美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山西村的人更美呢？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96720" y="5373720"/>
            <a:ext cx="813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莫笑农家腊酒浑，丰年留客足鸡豚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395280" y="35892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  <a:ea typeface="楷体_GB2312"/>
              </a:rPr>
              <a:t>诗中哪句话揭示了深刻的道理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698400" y="471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539640" y="1052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山重水复疑无路，柳暗花明又一村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539640" y="2494080"/>
            <a:ext cx="828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你能用自己的话说说对它的理解吗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612720" y="3718080"/>
            <a:ext cx="7920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09440" y="3502080"/>
            <a:ext cx="892980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诗句的意思是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山峦重重，水道弯弯，正怀疑无路可走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突然发现柳荫深深，鲜花明艳，眼前又是一个山村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36360" y="5086440"/>
            <a:ext cx="9001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34920" y="4941720"/>
            <a:ext cx="900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这个村庄的风光更给了他深刻的启示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经过坎坷曲折之后，往往会出现坦途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常用以形容陷入困境，似以无望，忽而绝处逢生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出现新的契机，增强克服困难的信心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6720" y="189000"/>
            <a:ext cx="258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主要内容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698400" y="471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324000" y="2205000"/>
            <a:ext cx="3095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908280" y="2060640"/>
            <a:ext cx="18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表达情感 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95280" y="2781360"/>
            <a:ext cx="8640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396720" y="2638440"/>
            <a:ext cx="80661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赞扬了农民的淳朴、好客的品性，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表现了诗人对农村生活的真挚感情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468360" y="4292640"/>
            <a:ext cx="3240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904320" y="4076640"/>
            <a:ext cx="1704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人生哲理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324000" y="5589720"/>
            <a:ext cx="8640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250920" y="4797360"/>
            <a:ext cx="885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面对困难，我们不要轻易退缩，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因为曲折之后才是坦途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要记住：“阳光总在风雨后！”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324000" y="1268280"/>
            <a:ext cx="864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1907280" y="105264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作者到山西村做客，见到山西村的美景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50920" y="260280"/>
            <a:ext cx="867564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80808"/>
                </a:solidFill>
                <a:latin typeface="Arial"/>
              </a:rPr>
              <a:t>俗语：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1" lang="zh-CN" sz="6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阳光总在风雨后” 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1" lang="zh-CN" sz="6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不经历风雨，怎能见彩虹？”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698400" y="471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1619280" y="15573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叙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2771640" y="16286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2050920" y="3933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写景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52280" y="2909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  <a:ea typeface="楷体_GB2312"/>
              </a:rPr>
              <a:t>游山西村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AutoShape 6"/>
          <p:cNvSpPr/>
          <p:nvPr/>
        </p:nvSpPr>
        <p:spPr>
          <a:xfrm>
            <a:off x="2987640" y="1268280"/>
            <a:ext cx="287280" cy="11574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7400"/>
              <a:gd name="textAreaBottom" fmla="*/ 1127520 h 11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3203640" y="3573360"/>
            <a:ext cx="144360" cy="115740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7400"/>
              <a:gd name="textAreaBottom" fmla="*/ 1127520 h 11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3845880" y="90792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莫  笑   农  家   腊   酒   浑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6924960" y="371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景色迷人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3492360" y="4508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柳   暗   花   明   又  一   村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6996600" y="1628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盛情待客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3348000" y="3521160"/>
            <a:ext cx="30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山   重  水   复   疑   无   路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AutoShape 13"/>
          <p:cNvSpPr/>
          <p:nvPr/>
        </p:nvSpPr>
        <p:spPr>
          <a:xfrm rot="10800000">
            <a:off x="7884720" y="765000"/>
            <a:ext cx="576360" cy="5181840"/>
          </a:xfrm>
          <a:custGeom>
            <a:avLst/>
            <a:gdLst>
              <a:gd name="textAreaLeft" fmla="*/ 368280 w 576360"/>
              <a:gd name="textAreaRight" fmla="*/ 576720 w 57636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Text Box 14"/>
          <p:cNvSpPr/>
          <p:nvPr/>
        </p:nvSpPr>
        <p:spPr>
          <a:xfrm>
            <a:off x="3778920" y="21844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丰   年   留   客   足  鸡    豚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8392680" y="2029680"/>
            <a:ext cx="60696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景美人更美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全班朗诵古诗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把课后第二题做到作业本上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填写本课练习册习题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2013.9.10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19" name="第五课 古诗两首-游山西村 课文朗读mp3 新课标人教版语文四年级上册 第七册课文朗读(www.asogou.com).mp3" descr="第五课 古诗两首-游山西村 课文朗读mp3 新课标人教版语文四年级上册 第七册课文朗读(www.asogou.com)"/>
          <p:cNvPicPr/>
          <p:nvPr/>
        </p:nvPicPr>
        <p:blipFill>
          <a:blip r:embed="rId1"/>
          <a:stretch/>
        </p:blipFill>
        <p:spPr>
          <a:xfrm>
            <a:off x="4068720" y="1773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7" dur="indefinite" restart="never" nodeType="tmRoot">
          <p:childTnLst>
            <p:seq>
              <p:cTn id="408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77328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9ac"/>
                </a:solidFill>
                <a:latin typeface="Arial"/>
              </a:rPr>
              <a:t>学习古诗的方法？</a:t>
            </a:r>
            <a:endParaRPr b="0" lang="en-US" sz="8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0" y="2781360"/>
            <a:ext cx="94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 u="sng">
                <a:solidFill>
                  <a:srgbClr val="9900cc"/>
                </a:solidFill>
                <a:uFillTx/>
                <a:latin typeface="Times New Roman"/>
              </a:rPr>
              <a:t>2</a:t>
            </a:r>
            <a:r>
              <a:rPr b="1" lang="zh-CN" sz="8000" spc="-1" strike="noStrike" u="sng">
                <a:solidFill>
                  <a:srgbClr val="9900cc"/>
                </a:solidFill>
                <a:uFillTx/>
                <a:latin typeface="Times New Roman"/>
              </a:rPr>
              <a:t>释诗句，明诗意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0" y="429264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 u="sng">
                <a:solidFill>
                  <a:srgbClr val="cc3300"/>
                </a:solidFill>
                <a:uFillTx/>
                <a:latin typeface="Times New Roman"/>
              </a:rPr>
              <a:t>3</a:t>
            </a:r>
            <a:r>
              <a:rPr b="1" lang="zh-CN" sz="8000" spc="-1" strike="noStrike" u="sng">
                <a:solidFill>
                  <a:srgbClr val="cc3300"/>
                </a:solidFill>
                <a:uFillTx/>
                <a:latin typeface="Times New Roman"/>
              </a:rPr>
              <a:t>想意境，悟诗情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0" y="1413000"/>
            <a:ext cx="8820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66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r>
              <a:rPr b="0" lang="zh-CN" sz="8000" spc="-1" strike="noStrike" u="sng">
                <a:solidFill>
                  <a:srgbClr val="0066ff"/>
                </a:solidFill>
                <a:uFillTx/>
                <a:latin typeface="Times New Roman"/>
                <a:hlinkClick r:id="rId2" action="ppaction://hlinksldjump"/>
              </a:rPr>
              <a:t>知诗人，解题意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5715000" y="3505320"/>
            <a:ext cx="259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11" name="Picture 5" descr="忆江南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WordArt 9"/>
          <p:cNvSpPr txBox="1"/>
          <p:nvPr/>
        </p:nvSpPr>
        <p:spPr>
          <a:xfrm>
            <a:off x="2124000" y="2133720"/>
            <a:ext cx="540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游山西村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360" y="117000"/>
            <a:ext cx="907272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1</a:t>
            </a:r>
            <a:r>
              <a:rPr b="0" lang="zh-CN" sz="6000" spc="-1" strike="noStrike" u="sng">
                <a:solidFill>
                  <a:srgbClr val="0066ff"/>
                </a:solidFill>
                <a:uFillTx/>
                <a:latin typeface="Arial"/>
                <a:hlinkClick r:id="rId2" action="ppaction://hlinksldjump"/>
              </a:rPr>
              <a:t>知诗人，解题意</a:t>
            </a:r>
            <a:endParaRPr b="0" lang="en-US" sz="6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07640" y="1052280"/>
            <a:ext cx="77691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这首诗的作者是谁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38080" y="512604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96720" y="414972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6372360" y="105264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8041b"/>
                </a:solidFill>
                <a:latin typeface="Times New Roman"/>
              </a:rPr>
              <a:t>陆游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81080" y="1989000"/>
            <a:ext cx="47512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谁能说出陆游是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什么朝代的什么人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612720" y="3573360"/>
            <a:ext cx="6120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041b"/>
                </a:solidFill>
                <a:latin typeface="Arial"/>
              </a:rPr>
              <a:t>陆游，字务观，号放翁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041b"/>
                </a:solidFill>
                <a:latin typeface="Arial"/>
              </a:rPr>
              <a:t>汉族，越州山阴（今浙江绍兴）人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041b"/>
                </a:solidFill>
                <a:latin typeface="Arial"/>
              </a:rPr>
              <a:t>南宋诗人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041b"/>
                </a:solidFill>
                <a:latin typeface="Arial"/>
              </a:rPr>
              <a:t>创作诗歌很多，今存九千多首，内容极为丰富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041b"/>
                </a:solidFill>
                <a:latin typeface="Arial"/>
              </a:rPr>
              <a:t>抒发政治抱负，反映人民疾苦，风格雄浑豪放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041b"/>
                </a:solidFill>
                <a:latin typeface="Arial"/>
              </a:rPr>
              <a:t>抒写日常生活，也多清新之作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179280" y="3286080"/>
            <a:ext cx="4537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24000" y="198900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Times New Roman"/>
              </a:rPr>
              <a:t>题目的意思是什么</a:t>
            </a:r>
            <a:r>
              <a:rPr b="1" lang="zh-CN" sz="5400" spc="-1" strike="noStrike">
                <a:solidFill>
                  <a:srgbClr val="080808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61128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9ac"/>
                </a:solidFill>
                <a:latin typeface="Arial"/>
                <a:ea typeface="华文新魏"/>
              </a:rPr>
              <a:t>游山西村</a:t>
            </a:r>
            <a:endParaRPr b="0" lang="en-US" sz="6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50920" y="3718080"/>
            <a:ext cx="374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8041b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a8041b"/>
                </a:solidFill>
                <a:latin typeface="Arial"/>
              </a:rPr>
              <a:t>游山西村”：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24" name="Group 5"/>
          <p:cNvGrpSpPr/>
          <p:nvPr/>
        </p:nvGrpSpPr>
        <p:grpSpPr>
          <a:xfrm>
            <a:off x="2771640" y="549360"/>
            <a:ext cx="838080" cy="1358640"/>
            <a:chOff x="2771640" y="549360"/>
            <a:chExt cx="838080" cy="1358640"/>
          </a:xfrm>
        </p:grpSpPr>
        <p:sp>
          <p:nvSpPr>
            <p:cNvPr id="225" name="AutoShape 6"/>
            <p:cNvSpPr/>
            <p:nvPr/>
          </p:nvSpPr>
          <p:spPr>
            <a:xfrm>
              <a:off x="3152520" y="549360"/>
              <a:ext cx="228600" cy="533160"/>
            </a:xfrm>
            <a:prstGeom prst="upArrow">
              <a:avLst>
                <a:gd name="adj1" fmla="val 50000"/>
                <a:gd name="adj2" fmla="val 58307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6" name="Line 7"/>
            <p:cNvSpPr/>
            <p:nvPr/>
          </p:nvSpPr>
          <p:spPr>
            <a:xfrm>
              <a:off x="2771640" y="1908000"/>
              <a:ext cx="83808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27" name="Rectangle 8"/>
          <p:cNvSpPr/>
          <p:nvPr/>
        </p:nvSpPr>
        <p:spPr>
          <a:xfrm>
            <a:off x="2701800" y="44280"/>
            <a:ext cx="1006560" cy="5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游玩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TextBox 10"/>
          <p:cNvSpPr/>
          <p:nvPr/>
        </p:nvSpPr>
        <p:spPr>
          <a:xfrm>
            <a:off x="4071960" y="3357720"/>
            <a:ext cx="485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8041b"/>
                </a:solidFill>
                <a:latin typeface="Arial"/>
              </a:rPr>
              <a:t>在山西村游玩</a:t>
            </a:r>
            <a:r>
              <a:rPr b="1" lang="zh-CN" sz="8000" spc="-1" strike="noStrike">
                <a:solidFill>
                  <a:srgbClr val="a8041b"/>
                </a:solidFill>
                <a:latin typeface="Arial"/>
              </a:rPr>
              <a:t>。</a:t>
            </a:r>
            <a:r>
              <a:rPr b="0" lang="zh-CN" sz="80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4c294400392136454afb51d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一、原文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游山西村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                                       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陆游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莫笑农家腊酒浑，丰年留客足鸡豚。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　　 山重水复疑无路，柳暗花明又一村。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　　 箫鼓追随春社近，衣冠简朴古风存。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　　 从今若许闲乘月，拄杖无时夜叩门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324000" y="21337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cc6600"/>
              </a:solidFill>
              <a:latin typeface="Times New Roman"/>
              <a:ea typeface="华文新魏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6348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592200" y="191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36" name="Picture 6" descr="thumbnail_400_400"/>
          <p:cNvPicPr/>
          <p:nvPr/>
        </p:nvPicPr>
        <p:blipFill>
          <a:blip r:embed="rId1"/>
          <a:stretch/>
        </p:blipFill>
        <p:spPr>
          <a:xfrm>
            <a:off x="36360" y="44280"/>
            <a:ext cx="5256360" cy="67424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7"/>
          <p:cNvSpPr/>
          <p:nvPr/>
        </p:nvSpPr>
        <p:spPr>
          <a:xfrm>
            <a:off x="5466240" y="1486080"/>
            <a:ext cx="127764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山重水复疑无路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5366880" y="2959560"/>
            <a:ext cx="72900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柳暗花明又一村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7453440" y="2060640"/>
            <a:ext cx="7920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8461440" y="2060640"/>
            <a:ext cx="6825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6732720" y="1413000"/>
            <a:ext cx="6490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丰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年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留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客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足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鸡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7740720" y="1917720"/>
            <a:ext cx="720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7380360" y="1557360"/>
            <a:ext cx="792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莫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笑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农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家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腊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酒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浑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8388360" y="1844640"/>
            <a:ext cx="5763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游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山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西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村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45" name="第五课 古诗两首-游山西村 课文朗读mp3 新课标人教版语文四年级上册 第七册课文朗读(www.asogou.com).mp3" descr="第五课 古诗两首-游山西村 课文朗读mp3 新课标人教版语文四年级上册 第七册课文朗读(www.asogou.com)"/>
          <p:cNvPicPr/>
          <p:nvPr/>
        </p:nvPicPr>
        <p:blipFill>
          <a:blip r:embed="rId2"/>
          <a:stretch/>
        </p:blipFill>
        <p:spPr>
          <a:xfrm>
            <a:off x="6732720" y="90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77328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25440" y="2852640"/>
            <a:ext cx="39592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莫笑农家腊酒浑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丰年留客足鸡豚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山重水复疑无路，柳暗花明又一村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476360" y="14860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  <a:ea typeface="华文新魏"/>
              </a:rPr>
              <a:t>腊月酿的酒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48" name="Group 4"/>
          <p:cNvGrpSpPr/>
          <p:nvPr/>
        </p:nvGrpSpPr>
        <p:grpSpPr>
          <a:xfrm>
            <a:off x="2268360" y="2276640"/>
            <a:ext cx="790920" cy="1223640"/>
            <a:chOff x="2268360" y="2276640"/>
            <a:chExt cx="790920" cy="1223640"/>
          </a:xfrm>
        </p:grpSpPr>
        <p:sp>
          <p:nvSpPr>
            <p:cNvPr id="249" name="AutoShape 5"/>
            <p:cNvSpPr/>
            <p:nvPr/>
          </p:nvSpPr>
          <p:spPr>
            <a:xfrm>
              <a:off x="2574000" y="2276640"/>
              <a:ext cx="197640" cy="725040"/>
            </a:xfrm>
            <a:prstGeom prst="upArrow">
              <a:avLst>
                <a:gd name="adj1" fmla="val 50000"/>
                <a:gd name="adj2" fmla="val 91712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0" name="Line 6"/>
            <p:cNvSpPr/>
            <p:nvPr/>
          </p:nvSpPr>
          <p:spPr>
            <a:xfrm>
              <a:off x="2268360" y="3500280"/>
              <a:ext cx="79092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51" name="Rectangle 7"/>
          <p:cNvSpPr/>
          <p:nvPr/>
        </p:nvSpPr>
        <p:spPr>
          <a:xfrm>
            <a:off x="3851280" y="2565360"/>
            <a:ext cx="5113440" cy="1224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不要笑话农家的腊酒浑浊不清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3854520" y="3860640"/>
            <a:ext cx="5111640" cy="100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丰收年景款待客人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菜肴尽够丰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53" name="Group 9"/>
          <p:cNvGrpSpPr/>
          <p:nvPr/>
        </p:nvGrpSpPr>
        <p:grpSpPr>
          <a:xfrm>
            <a:off x="468360" y="2708280"/>
            <a:ext cx="360360" cy="720720"/>
            <a:chOff x="468360" y="2708280"/>
            <a:chExt cx="360360" cy="720720"/>
          </a:xfrm>
        </p:grpSpPr>
        <p:sp>
          <p:nvSpPr>
            <p:cNvPr id="254" name="AutoShape 10"/>
            <p:cNvSpPr/>
            <p:nvPr/>
          </p:nvSpPr>
          <p:spPr>
            <a:xfrm>
              <a:off x="632160" y="2708280"/>
              <a:ext cx="98280" cy="282960"/>
            </a:xfrm>
            <a:prstGeom prst="upArrow">
              <a:avLst>
                <a:gd name="adj1" fmla="val 50000"/>
                <a:gd name="adj2" fmla="val 71978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5" name="Line 11"/>
            <p:cNvSpPr/>
            <p:nvPr/>
          </p:nvSpPr>
          <p:spPr>
            <a:xfrm>
              <a:off x="468360" y="3429000"/>
              <a:ext cx="36036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56" name="Text Box 12"/>
          <p:cNvSpPr/>
          <p:nvPr/>
        </p:nvSpPr>
        <p:spPr>
          <a:xfrm>
            <a:off x="-384120" y="227664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  <a:ea typeface="华文新魏"/>
              </a:rPr>
              <a:t>不要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3852720" y="4941720"/>
            <a:ext cx="5116680" cy="187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山峦重重，水道弯弯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正怀疑无路可走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突然发现柳荫深深，鲜花明艳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眼前又是一个山村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34920" y="0"/>
            <a:ext cx="9107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9900cc"/>
                </a:solidFill>
                <a:uFillTx/>
                <a:latin typeface="Arial"/>
              </a:rPr>
              <a:t>2</a:t>
            </a:r>
            <a:r>
              <a:rPr b="1" lang="zh-CN" sz="6000" spc="-1" strike="noStrike" u="sng">
                <a:solidFill>
                  <a:srgbClr val="9900cc"/>
                </a:solidFill>
                <a:uFillTx/>
                <a:latin typeface="Arial"/>
              </a:rPr>
              <a:t>释诗句，明诗意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59" name="Group 15"/>
          <p:cNvGrpSpPr/>
          <p:nvPr/>
        </p:nvGrpSpPr>
        <p:grpSpPr>
          <a:xfrm>
            <a:off x="3203640" y="3860640"/>
            <a:ext cx="360360" cy="505080"/>
            <a:chOff x="3203640" y="3860640"/>
            <a:chExt cx="360360" cy="505080"/>
          </a:xfrm>
        </p:grpSpPr>
        <p:sp>
          <p:nvSpPr>
            <p:cNvPr id="260" name="AutoShape 16"/>
            <p:cNvSpPr/>
            <p:nvPr/>
          </p:nvSpPr>
          <p:spPr>
            <a:xfrm>
              <a:off x="3367440" y="3860640"/>
              <a:ext cx="98280" cy="198360"/>
            </a:xfrm>
            <a:prstGeom prst="upArrow">
              <a:avLst>
                <a:gd name="adj1" fmla="val 50000"/>
                <a:gd name="adj2" fmla="val 50458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1" name="Line 17"/>
            <p:cNvSpPr/>
            <p:nvPr/>
          </p:nvSpPr>
          <p:spPr>
            <a:xfrm>
              <a:off x="3203640" y="4365720"/>
              <a:ext cx="36036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62" name="Rectangle 18"/>
          <p:cNvSpPr/>
          <p:nvPr/>
        </p:nvSpPr>
        <p:spPr>
          <a:xfrm>
            <a:off x="3132000" y="3502080"/>
            <a:ext cx="50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  <a:ea typeface="华文新魏"/>
              </a:rPr>
              <a:t>猪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29"/>
          <p:cNvSpPr/>
          <p:nvPr/>
        </p:nvSpPr>
        <p:spPr>
          <a:xfrm>
            <a:off x="4572000" y="914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莫 笑 农 家 腊 酒 浑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4" name="Picture 1035" descr="陆游6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矩形 4"/>
          <p:cNvSpPr/>
          <p:nvPr/>
        </p:nvSpPr>
        <p:spPr>
          <a:xfrm>
            <a:off x="4000680" y="2000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（你）不要笑话农家的腊酒浑浊不清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08:15:38Z</dcterms:created>
  <dc:creator>wwwfox</dc:creator>
  <dc:description/>
  <cp:keywords/>
  <dc:language>en-US</dc:language>
  <cp:lastModifiedBy>user</cp:lastModifiedBy>
  <dcterms:modified xsi:type="dcterms:W3CDTF">2015-09-18T03:56:02Z</dcterms:modified>
  <cp:revision>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